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A98-D657-43CB-9978-65B924B9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E66-3008-4D1C-BD0D-CB5E25A9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225-4D49-4192-ACEC-AC798EFA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E03-8E44-4E21-A484-BE578F5C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E1CF-FD6F-485C-85ED-D70D606E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4A0F-AA94-47E5-A882-6B592F0D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E82A-443E-4C30-969A-357EC5B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542-A19C-4E71-8770-B2F334B2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235-C2F0-4743-A4EB-9805B90B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014-5A3E-4315-A367-EA48E508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23CA-C97D-4ED7-BEA3-2B44A90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960-111D-476A-BA71-0507D0F2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F02F-24AA-4F52-9DDF-2FD2F941395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6280" y="1358640"/>
            <a:ext cx="66787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 u="sng">
                <a:solidFill>
                  <a:srgbClr val="003300"/>
                </a:solidFill>
                <a:uFillTx/>
                <a:latin typeface="Century Gothic"/>
              </a:rPr>
              <a:t>BUDOWA ATOM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MCj02871310000[1]"/>
          <p:cNvPicPr/>
          <p:nvPr/>
        </p:nvPicPr>
        <p:blipFill>
          <a:blip r:embed="rId1"/>
          <a:stretch/>
        </p:blipFill>
        <p:spPr>
          <a:xfrm>
            <a:off x="4211640" y="2403360"/>
            <a:ext cx="44877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189000"/>
            <a:ext cx="914400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Liczba atom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Tahoma"/>
                <a:ea typeface="Arial"/>
              </a:rPr>
              <a:t>Atom pierwiastka chemicznego jest elektrycznie obojętny. Liczba protonów jest równa liczbie elektron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a protonów wchodzących w skład jądra atomowego nazywa się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liczbą atomową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i oznacza się symbolem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ahoma"/>
                <a:ea typeface="Arial"/>
              </a:rPr>
              <a:t>Z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Z</a:t>
            </a: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= ładunek jądra = liczba protonów =</a:t>
            </a:r>
            <a:br>
              <a:rPr sz="2800"/>
            </a:br>
            <a:r>
              <a:rPr b="0" lang="pl-PL" sz="2800" spc="-1" strike="noStrike">
                <a:solidFill>
                  <a:srgbClr val="083763"/>
                </a:solidFill>
                <a:latin typeface="Tahoma"/>
                <a:ea typeface="Arial"/>
              </a:rPr>
              <a:t> liczba elektron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50920" y="4143240"/>
            <a:ext cx="8424720" cy="23403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Liczba mas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uma protonów i neutronów (nukleonów) jest nazwa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czbą masową i oznacza się ją symbolem  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  <a:ea typeface="Arial"/>
              </a:rPr>
              <a:t>A = liczba protonów + liczba neutron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= nukleony = p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+ n</a:t>
            </a:r>
            <a:r>
              <a:rPr b="0" lang="pl-P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8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liczba atomowa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= p+ = e-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11280" y="260280"/>
            <a:ext cx="2952720" cy="398880"/>
          </a:xfrm>
          <a:prstGeom prst="rect">
            <a:avLst/>
          </a:prstGeom>
          <a:solidFill>
            <a:srgbClr val="4fc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sumowan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68360" y="907920"/>
            <a:ext cx="7343640" cy="548352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to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układ złożony z jądra atomowego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t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budowy atomu wchodzące w skład jądra atomu mające masę równą 1 u i ładunek elementarny dodat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eu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 jądra atomowego elektrycznie obojętne o masie w przybliżeniu równej masie protonu = 1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lektr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cząstki elementarne poruszające się wokół jądra atomowego, posiadające ładunek elementarny ujemny i masę 1840 razy mniejszą od masy proto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atom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 liczba protonów 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czba mas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- suma liczby protonów i neutronów w jądrze atomow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iastek chemicz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–zbiór atomów o takiej samej liczbie atomow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9280" y="4005360"/>
            <a:ext cx="1413000" cy="193032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4" name="Text Box 3"/>
          <p:cNvSpPr/>
          <p:nvPr/>
        </p:nvSpPr>
        <p:spPr>
          <a:xfrm>
            <a:off x="0" y="260280"/>
            <a:ext cx="813744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50920" y="260280"/>
            <a:ext cx="8497800" cy="320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Teoria atomistyczno-cząsteczkowej budowy materii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pojawiła się w XIX wieku. W 1808 roku John Dalton przedstawił najważniejsze założenia tej teori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tego samego pierwiastka chemicznego są identyczne pod względem masy i rozmiar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mają kształt kulis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 jest najmniejszą cząstką pierwiastka chemicznego, która posiada wszystkie cechy tego pierwiast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Pierwiastek chemiczny jest zbiorem takich samych atom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Atomy łączą się tworząc cząstecz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1603a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1603a1"/>
                </a:solidFill>
                <a:latin typeface="Arial"/>
              </a:rPr>
              <a:t>Związek chemiczny jest zbiorem takich samych cząstecz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7302600" y="2565360"/>
            <a:ext cx="1841400" cy="1911240"/>
          </a:xfrm>
          <a:prstGeom prst="rect">
            <a:avLst/>
          </a:prstGeom>
          <a:ln w="57240">
            <a:solidFill>
              <a:srgbClr val="06686d"/>
            </a:solidFill>
            <a:miter/>
          </a:ln>
        </p:spPr>
      </p:pic>
      <p:sp>
        <p:nvSpPr>
          <p:cNvPr id="47" name="AutoShape 6"/>
          <p:cNvSpPr/>
          <p:nvPr/>
        </p:nvSpPr>
        <p:spPr>
          <a:xfrm>
            <a:off x="1619280" y="3716280"/>
            <a:ext cx="4246560" cy="2376720"/>
          </a:xfrm>
          <a:prstGeom prst="wedgeEllipseCallout">
            <a:avLst>
              <a:gd name="adj1" fmla="val -52652"/>
              <a:gd name="adj2" fmla="val 3356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24000" bIns="36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mokryt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– grecki  filozof, który wprowadził pojęcie atomu. Przedstawił hipotezę, że świat jest zbudowany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 atomów, czyli drobnych, niepodzielnych cząstek                     </a:t>
            </a:r>
            <a:br>
              <a:rPr sz="1600"/>
            </a:b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   materi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5580000" y="4869000"/>
            <a:ext cx="3564000" cy="1989000"/>
          </a:xfrm>
          <a:prstGeom prst="wedgeEllipseCallout">
            <a:avLst>
              <a:gd name="adj1" fmla="val 33606"/>
              <a:gd name="adj2" fmla="val -62689"/>
            </a:avLst>
          </a:prstGeom>
          <a:solidFill>
            <a:srgbClr val="91c6f7"/>
          </a:solidFill>
          <a:ln w="2232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000000"/>
                </a:solidFill>
                <a:latin typeface="Arial"/>
              </a:rPr>
              <a:t>John Dalton</a:t>
            </a:r>
            <a:r>
              <a:rPr b="1" i="1" lang="pl-PL" sz="1600" spc="-1" strike="noStrike">
                <a:solidFill>
                  <a:srgbClr val="000000"/>
                </a:solidFill>
                <a:latin typeface="Arial"/>
              </a:rPr>
              <a:t> – brytyjski nauczyciel chemii, który wprowadził do nowoczesnej chemii hipotezę Demokry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Budowa atom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MCj02410910000[1]"/>
          <p:cNvPicPr/>
          <p:nvPr/>
        </p:nvPicPr>
        <p:blipFill>
          <a:blip r:embed="rId1"/>
          <a:stretch/>
        </p:blipFill>
        <p:spPr>
          <a:xfrm>
            <a:off x="341280" y="414360"/>
            <a:ext cx="1440000" cy="1434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2"/>
          <a:stretch/>
        </p:blipFill>
        <p:spPr>
          <a:xfrm>
            <a:off x="709560" y="2475000"/>
            <a:ext cx="703116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050920" y="1628640"/>
            <a:ext cx="633744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om zbudowany jest z jądra w którym znajdują się protony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 neutrony oraz z krążących wokół jądra elektr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79280" y="62064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Atom jest najmniejszą ilością pierwiastka zachowującą jego właściwości chemi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3528720" cy="352908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55" name="Text Box 5"/>
          <p:cNvSpPr/>
          <p:nvPr/>
        </p:nvSpPr>
        <p:spPr>
          <a:xfrm>
            <a:off x="5742000" y="5364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83763"/>
                </a:solidFill>
                <a:latin typeface="Arial"/>
              </a:rPr>
              <a:t>Model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 flipH="1">
            <a:off x="3851280" y="3645000"/>
            <a:ext cx="1441440" cy="792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>
            <a:off x="5292720" y="3645000"/>
            <a:ext cx="1727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5508720" y="3068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jądro atomu = protony + neu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H="1">
            <a:off x="4356000" y="4292640"/>
            <a:ext cx="1008000" cy="57636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0"/>
          <p:cNvSpPr/>
          <p:nvPr/>
        </p:nvSpPr>
        <p:spPr>
          <a:xfrm>
            <a:off x="5364000" y="4292640"/>
            <a:ext cx="17290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5651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elektr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6280" y="232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harakterystyka cząstek elementarnych budowy ato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1116000" y="2997360"/>
            <a:ext cx="43927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84360" y="3068640"/>
            <a:ext cx="799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211640" y="5950080"/>
            <a:ext cx="2890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14036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8000" y="1628640"/>
          <a:ext cx="8966160" cy="3856320"/>
        </p:xfrm>
        <a:graphic>
          <a:graphicData uri="http://schemas.openxmlformats.org/drawingml/2006/table">
            <a:tbl>
              <a:tblPr/>
              <a:tblGrid>
                <a:gridCol w="1646280"/>
                <a:gridCol w="2098440"/>
                <a:gridCol w="1943280"/>
                <a:gridCol w="1584360"/>
                <a:gridCol w="169380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zary budowy ato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cząst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ybliżona ma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arny ładunek elektrycz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80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ądro atom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n</a:t>
                      </a:r>
                      <a:br>
                        <a:rPr sz="1800"/>
                      </a:b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tr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, p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 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, n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1" lang="pl-P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br>
                        <a:rPr sz="2800"/>
                      </a:b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358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łoki elektron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e</a:t>
                      </a:r>
                      <a:r>
                        <a:rPr b="1" lang="pl-PL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2ff16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8" name="AutoShape 49"/>
          <p:cNvSpPr/>
          <p:nvPr/>
        </p:nvSpPr>
        <p:spPr>
          <a:xfrm>
            <a:off x="2771640" y="2708280"/>
            <a:ext cx="71640" cy="934920"/>
          </a:xfrm>
          <a:custGeom>
            <a:avLst/>
            <a:gdLst>
              <a:gd name="textAreaLeft" fmla="*/ 0 w 71640"/>
              <a:gd name="textAreaRight" fmla="*/ 25920 w 7164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0"/>
          <p:cNvSpPr/>
          <p:nvPr/>
        </p:nvSpPr>
        <p:spPr>
          <a:xfrm>
            <a:off x="5148360" y="321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1"/>
          <p:cNvSpPr/>
          <p:nvPr/>
        </p:nvSpPr>
        <p:spPr>
          <a:xfrm>
            <a:off x="2771640" y="2990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ukle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7"/>
              <p:cNvSpPr txBox="1"/>
              <p:nvPr/>
            </p:nvSpPr>
            <p:spPr>
              <a:xfrm>
                <a:off x="4716360" y="4292640"/>
                <a:ext cx="863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Line 185"/>
          <p:cNvSpPr/>
          <p:nvPr/>
        </p:nvSpPr>
        <p:spPr>
          <a:xfrm>
            <a:off x="6156360" y="436572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7"/>
          <p:cNvSpPr/>
          <p:nvPr/>
        </p:nvSpPr>
        <p:spPr>
          <a:xfrm>
            <a:off x="6948360" y="4076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Rozmieszczenie elektronów </a:t>
            </a:r>
            <a:br>
              <a:rPr sz="4500"/>
            </a:br>
            <a:r>
              <a:rPr b="0" lang="pl-PL" sz="4500" spc="-1" strike="noStrike">
                <a:solidFill>
                  <a:srgbClr val="083763"/>
                </a:solidFill>
                <a:latin typeface="Arial"/>
              </a:rPr>
              <a:t>w atomie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79280" y="1557360"/>
            <a:ext cx="856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okół jądra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oruszają się z ogromną szybkością lżejsze od niego i ujemnie naładowane elektron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Ich ruch daje efekt chmury ładunku ujemnego zwanego powłoką elektronow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185920" y="3968640"/>
            <a:ext cx="3924360" cy="2467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Elektrony walencyj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3564000" y="1628640"/>
            <a:ext cx="50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Elektrony powłoki zewnętrznej najsłabiej przyciągane przez jądro są najbardziej ruchliwe. Biorą one udział w reakcjach chemicznych i decydują o właściwościach pierwiast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68360" y="5013360"/>
            <a:ext cx="7056360" cy="177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Nazywamy je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elektronami walencyjnymi, </a:t>
            </a:r>
            <a:br>
              <a:rPr sz="2800"/>
            </a:br>
            <a:r>
              <a:rPr b="0" lang="pl-PL" sz="2800" spc="-1" strike="noStrike" baseline="-25000">
                <a:solidFill>
                  <a:srgbClr val="000000"/>
                </a:solidFill>
                <a:latin typeface="Tahoma"/>
              </a:rPr>
              <a:t>a powłokę na której są rozmieszczone, </a:t>
            </a:r>
            <a:r>
              <a:rPr b="1" lang="pl-PL" sz="2800" spc="-1" strike="noStrike" baseline="-25000">
                <a:solidFill>
                  <a:srgbClr val="000000"/>
                </a:solidFill>
                <a:latin typeface="Tahoma"/>
              </a:rPr>
              <a:t>powłoką walencyj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765000"/>
            <a:ext cx="17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324000" y="3500280"/>
            <a:ext cx="502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000240" cy="2797200"/>
          </a:xfrm>
          <a:prstGeom prst="rect">
            <a:avLst/>
          </a:prstGeom>
          <a:ln w="82440">
            <a:solidFill>
              <a:srgbClr val="ff0000"/>
            </a:solidFill>
            <a:miter/>
          </a:ln>
        </p:spPr>
      </p:pic>
      <p:sp>
        <p:nvSpPr>
          <p:cNvPr id="83" name="Line 8"/>
          <p:cNvSpPr/>
          <p:nvPr/>
        </p:nvSpPr>
        <p:spPr>
          <a:xfrm flipH="1" flipV="1">
            <a:off x="1979640" y="3860640"/>
            <a:ext cx="1512720" cy="1224000"/>
          </a:xfrm>
          <a:prstGeom prst="line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900" spc="-1" strike="noStrike">
                <a:solidFill>
                  <a:srgbClr val="083763"/>
                </a:solidFill>
                <a:latin typeface="Arial"/>
              </a:rPr>
              <a:t>Powłoki elektronow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68360" y="191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Maksymalna liczba elektronów w danej powłoce wynosi 2n</a:t>
            </a:r>
            <a:r>
              <a:rPr b="0" lang="pl-PL" sz="2400" spc="-1" strike="noStrike" baseline="30000">
                <a:solidFill>
                  <a:srgbClr val="083763"/>
                </a:solidFill>
                <a:latin typeface="Tahoma"/>
              </a:rPr>
              <a:t>2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, gdzie </a:t>
            </a:r>
            <a:r>
              <a:rPr b="0" i="1" lang="pl-PL" sz="2400" spc="-1" strike="noStrike">
                <a:solidFill>
                  <a:srgbClr val="083763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83763"/>
                </a:solidFill>
                <a:latin typeface="Tahoma"/>
              </a:rPr>
              <a:t> to numer powło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95280" y="2997360"/>
          <a:ext cx="8497800" cy="3566880"/>
        </p:xfrm>
        <a:graphic>
          <a:graphicData uri="http://schemas.openxmlformats.org/drawingml/2006/table">
            <a:tbl>
              <a:tblPr/>
              <a:tblGrid>
                <a:gridCol w="2743200"/>
                <a:gridCol w="2513160"/>
                <a:gridCol w="3241440"/>
              </a:tblGrid>
              <a:tr h="123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umer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Nazwa powłok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800" spc="-1" strike="noStrike">
                          <a:solidFill>
                            <a:srgbClr val="083763"/>
                          </a:solidFill>
                          <a:latin typeface="Arial"/>
                        </a:rPr>
                        <a:t>Maksymalna liczba elektronó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6686d"/>
                      </a:solidFill>
                    </a:lnL>
                    <a:lnR w="13680">
                      <a:solidFill>
                        <a:srgbClr val="06686d"/>
                      </a:solidFill>
                    </a:lnR>
                    <a:lnT w="13680">
                      <a:solidFill>
                        <a:srgbClr val="06686d"/>
                      </a:solidFill>
                    </a:lnT>
                    <a:lnB w="13680">
                      <a:solidFill>
                        <a:srgbClr val="06686d"/>
                      </a:solidFill>
                    </a:lnB>
                    <a:solidFill>
                      <a:srgbClr val="c9faf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5d61"/>
            </a:gs>
            <a:gs pos="100000">
              <a:srgbClr val="d2cbd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7"/>
          <p:cNvSpPr/>
          <p:nvPr/>
        </p:nvSpPr>
        <p:spPr>
          <a:xfrm>
            <a:off x="1116000" y="4770360"/>
            <a:ext cx="2087640" cy="208764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26920" y="0"/>
            <a:ext cx="727236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ukle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ładniki jądra atomowego - protony i neutrony noszą nazwę nukleonó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Proto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są cząstkami o ładunku dodatnim. Wchodzą w skład jąder każdego atomu. Masa protonu jest równa 1 u, a ładunek jest równy + 1 (elementarny ładunek dodat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cc0000"/>
                </a:solidFill>
                <a:uFillTx/>
                <a:latin typeface="Arial"/>
              </a:rPr>
              <a:t>Neutr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83763"/>
                </a:solidFill>
                <a:latin typeface="Arial"/>
              </a:rPr>
              <a:t>Są cząstkami elektrycznie obojętnymi o masie w przybliżeniu równej masie protonu, czyli 1 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547640" y="5229360"/>
            <a:ext cx="1152720" cy="115236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0837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8"/>
          <p:cNvSpPr/>
          <p:nvPr/>
        </p:nvSpPr>
        <p:spPr>
          <a:xfrm>
            <a:off x="1979640" y="5661000"/>
            <a:ext cx="360360" cy="360360"/>
          </a:xfrm>
          <a:prstGeom prst="ellipse">
            <a:avLst/>
          </a:prstGeom>
          <a:solidFill>
            <a:srgbClr val="4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1908000" y="5661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3132000" y="558972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1619280" y="6093000"/>
            <a:ext cx="14436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411280" y="5300640"/>
            <a:ext cx="144720" cy="14436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0" y="3933720"/>
            <a:ext cx="2376360" cy="734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proszczony model atomu litu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0"/>
              <p:cNvSpPr txBox="1"/>
              <p:nvPr/>
            </p:nvSpPr>
            <p:spPr>
              <a:xfrm>
                <a:off x="6372360" y="4292640"/>
                <a:ext cx="187164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Text Box 22"/>
          <p:cNvSpPr/>
          <p:nvPr/>
        </p:nvSpPr>
        <p:spPr>
          <a:xfrm>
            <a:off x="3780000" y="43657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masowa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3708360" y="57340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83763"/>
                </a:solidFill>
                <a:latin typeface="Arial"/>
              </a:rPr>
              <a:t>Liczba atomowa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5867280" y="4724280"/>
            <a:ext cx="792360" cy="7308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 flipV="1">
            <a:off x="6084720" y="5734080"/>
            <a:ext cx="503280" cy="216000"/>
          </a:xfrm>
          <a:prstGeom prst="line">
            <a:avLst/>
          </a:prstGeom>
          <a:ln w="57240">
            <a:solidFill>
              <a:srgbClr val="0837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5:02:45Z</dcterms:created>
  <dc:creator>krystynamarek</dc:creator>
  <dc:description/>
  <cp:keywords/>
  <dc:language>en-US</dc:language>
  <cp:lastModifiedBy>Toshiba</cp:lastModifiedBy>
  <dcterms:modified xsi:type="dcterms:W3CDTF">2013-05-02T08:16:34Z</dcterms:modified>
  <cp:revision>26</cp:revision>
  <dc:subject/>
  <dc:title>Slajd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5</vt:lpwstr>
  </property>
</Properties>
</file>